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810-D233-4FE8-915F-BBE6CE81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237-4277-42D4-94AB-AE0F1AAB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546-FB47-4DC1-AEE9-07BA4120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EB5-3DB4-43D9-8724-44E299C2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00D5-B0E4-4AE5-8351-65D49B10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4C76-B073-4834-9FBA-000574BE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EBF9-9BCD-4942-BB88-C6453092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28EB-AEBB-4DE0-BD31-EDAE39CA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1627-976C-42A6-8768-20CA922B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3CF6-1E38-4708-8B38-D1105C56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8A1C-A7D4-44EE-97DF-5BD787DA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9C1-C1EB-4666-AC0A-540F8F08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A571-7C6A-48F0-B4EE-D23EB9C6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7AC5-020F-48C1-9D46-CDD25655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E66E-914A-49C6-BE5E-ED6AE4B7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C4D6-EF82-4A3A-B507-A9AB222A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410-186B-4145-B9B0-2C52E8E8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34D5-0B14-4258-A64E-971070C2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736E-2173-4E66-8251-4A249473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13A7-1813-471F-8F65-5D7C529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BF1B-E9CC-4777-9CF1-ECAB99B6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3516-F755-41F3-BF23-85FE5AE0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ADF-E490-4F6B-93FC-3AB25953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ADCB-8AAA-49B1-91ED-D4DF14E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0C9A-FDC2-4262-9226-67D56103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BC69-FBF5-4725-8A3A-E35D3C63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2AF9-DD96-4693-A394-4065E9FD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B7FF-75AF-433E-8281-2D3A420F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FD95-412F-44BE-B505-511BC36E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1932-A0D6-4655-BF0A-7506D797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23A5-1264-4E95-9968-CFBC113A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4F1F-18C7-483C-89F7-A377914B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F9F4-FA12-492B-96E1-14344924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354-DD1C-407E-9645-DEF3FE31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1562B-D8B0-4990-A0A4-DCEE85AD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EF1A-D1D9-4D8A-9557-ECE3B007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C22A-C0FE-4F02-BB0C-DF906E9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0AF0-7234-40B2-85D0-B7DBD1BE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E45F4-3251-463D-9EA6-5369BCD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31AF1-0994-4385-A814-D4E75E12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2B9A-023E-4878-A60B-58DD28A5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92F85-54EC-4A4E-8DAD-2B05B795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408A-4F1F-4021-B627-55701A3A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E47-31D2-472B-BC77-06B2C176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C8F-5D17-4DA8-B7AD-F690B221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DBA-1355-414B-82B8-FD877D37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AB2-3BF5-4948-8B4B-3E10CDF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2FC-821D-4B4A-8B55-2C374846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E66B-0CE4-40E5-8836-E48BEA060B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155F-C6AE-42E0-9911-A7F9FD6F03A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3B12-6908-4115-9B93-C9A102ED6B3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8561-6C43-4778-A25B-0A4D214C3F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blogs.seattleweekly.com/voracious/corn.jpg&amp;imgrefurl=http://blogs.seattleweekly.com/voracious/2008/09/do_not_open_the_corn.php&amp;usg=__KkD4Xvw50_qcZfG_KC7deyVxCKw=&amp;h=300&amp;w=360&amp;sz=33&amp;hl=en&amp;start=3&amp;zoom=1&amp;itbs=1&amp;tbnid=jC7yjzfxn9PXgM:&amp;tbnh=101&amp;tbnw=121&amp;prev=/images%3Fq%3DCorn%26hl%3Den%26gbv%3D2%26tbs%3Disch: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’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9718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2981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Broadway"/>
              </a:rPr>
              <a:t>FOOD PRODUCED IN RUSSI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tato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gar b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Broadway"/>
              </a:rPr>
              <a:t>Manufacturing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Most manufacturing centers 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Factories in St. Petersburg make light machinery, textiles, and 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6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etroli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1599840"/>
            <a:ext cx="511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:\Users\cool\AppData\Local\Microsoft\Windows\Temporary Internet Files\Content.IE5\2IUTAM3Y\MP900289272[1].jpg"/>
          <p:cNvPicPr/>
          <p:nvPr/>
        </p:nvPicPr>
        <p:blipFill>
          <a:blip r:embed="rId2"/>
          <a:stretch/>
        </p:blipFill>
        <p:spPr>
          <a:xfrm>
            <a:off x="4572000" y="2209680"/>
            <a:ext cx="30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dustrial production growth  rate 13.1%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tals are used to make advanced air crafts, ships , missiles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ensive technology include- radars, and advanced electronics components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l and scientific industry include- textiles ,handicrafts ,foodstuff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oad and rail transportation include- communication equipment, tractors, agriculture machinery, and construction equipment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MS900074858[1].wav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cool\AppData\Local\Microsoft\Windows\Temporary Internet Files\Content.IE5\2IUTAM3Y\MP900390146[1].jpg"/>
          <p:cNvPicPr/>
          <p:nvPr/>
        </p:nvPicPr>
        <p:blipFill>
          <a:blip r:embed="rId3"/>
          <a:stretch/>
        </p:blipFill>
        <p:spPr>
          <a:xfrm>
            <a:off x="5105520" y="1752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47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cow  is Russia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C:\Users\cool\AppData\Local\Microsoft\Windows\Temporary Internet Files\Content.IE5\04V09QGG\MC900101208[1].wmf"/>
          <p:cNvPicPr/>
          <p:nvPr/>
        </p:nvPicPr>
        <p:blipFill>
          <a:blip r:embed="rId2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ussia port c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is hard for  the port cities to transport goods because  the water in all the other port cities are froze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le the other port cities trade bring goods to Russia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530280" y="1311120"/>
            <a:ext cx="7864560" cy="2505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 </cp:lastModifiedBy>
  <dcterms:modified xsi:type="dcterms:W3CDTF">2010-12-20T19:38:58Z</dcterms:modified>
  <cp:revision>19</cp:revision>
  <dc:subject/>
  <dc:title>Economy</dc:title>
</cp:coreProperties>
</file>